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рганизация документообор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Исходящ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оит из документов, создаваемых в данной организации и отправляемых за ее пределы. Исходящие документы могут создаваться как инициативные документы (требующие или не требующие ответа) или как ответные на поступившие письменные или устные запро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нутренн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860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авляют документы, не выходящие за пределы организации. Происхождение документов совпадает со сферой их применения: они создаются и обеспечивают целенаправленное решение управленческих задач в пределах одного учреждения, орган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внутренним, прежде всего, относятся организационные документы, определяющие задачи, функции организации в целом, а также ее структурных подразделений, компетенцию, права и обязанности должностных лиц, правила выполнения отдельных видов деятельности — положения, уставы, учредительные договоры, должностные инструкции, регламен­ы, правила, штатные расписания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кцию оперативного регулирования деятельности учреждений выполняют распорядительные документы, издаваемые руководством, — приказы, указания, распоряжения, решения. Самостоятельные группы внутреннего документопотока составляют протоколы и акты, плановые и отчетные документы, документы по учету материальных и денежных средств, оборудования, личного состава и т. 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актике деятельности современных организаций широкое распространение получила внутренняя переписка. Она оформляется, в основном, докладными (служебными) и объяснительными записками, которые составляют отдельную группу внутренней документ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Учет документооборота позволяет: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загрузку организации в целом, ее структурных подразделений и отдельных исполнител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соответствие маршрутов движения тех или иных документов задачам и функциям структурных подразделений или должностных лиц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ть мероприятия по совершенствованию процессов обработки документов в целом или их отдельных операц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 оптимальное количество информации, необходимой и достаточной для функционирования аппарата управл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читать численность службы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Дайте определение понятия «документооборо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еречислите основные требования к организации документооборота в учреж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Назовите правила учета документообор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8A73-C74B-4EFF-B5B2-93E476C7DF4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BC14-05E9-435D-AA9B-2555321D32F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Технологии ДОУ в соответствии с различием информационных процессов делятся на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обработки поступающих и отправляемы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передачи (доведения) документной информации конечному пользовател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введения документов в информационную базу данных организации исход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ее внутренней струк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й обработки документной информации и накопл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хранения и использования отдельных локальных групп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бщие принципы организации документооборота в ЕГСД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ГОСТ Р 51141 " Делопроизводство и архивное дело. Термины и определения"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ооборо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это движение документов с момента их создания или получения до завершения исполнения: отправки и (или) направления в дел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организации движения документов необходимо выполнение следующих правил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еративное прохождение документа, с наименьшими затратами вре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сокращение инстанций прохождения документов (за счет исключения технологических операций и обработке документов и управленческих звеньев, не обусловленных деловой необходимостью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 или максимальное ограничение возвратных движений документов (при их обработке - регистрация и доставка, при их подготовке - визирование и согласование и т.д.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единообразие в порядке прохождения и процессах обработки основных категорий документов, исходя из того, что каждое перемещение документа должно быть оправдан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Выделяют три основных типа документов, составляющих централизованный документооборот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02724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ходящи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сходя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нутрен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окументопотоки различаются по направлению и по отношению к управленческому объекту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аправлению выделяю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изонтальные и вертикальные (восходящие и нисходящие) поток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ризонт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токи связывают организации одного уровня управления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ртик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организации различных уровн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ходящие пото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это документы подчиненных организаций, направляемые в вышестоящие инстанции (документы, получаемые вышестоящей орга­низацией от подчиненных организаций). Нисходящие потоки — это документы, направляемые вышестоящими органами власти и управления подчиненным организац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отношению к управленческой системе вы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ходящий документопоток (документы, поступающие в организацию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ящий документопоток (документы, отправляемые из организац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й документопоток (документы, не выходящие за пределы подготовившей их организац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ходящий документопоток любой организации составляю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3840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вышестоящи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органов власти и управления, головных компаний и др.). Они содержат директивные указания, нормативные и методические акты, которые являются основанием для организации производственной, управленческой, технической, экономической, социальной и иной деятельности в учреждении. Основными видами документов данной группы являются законы, указы, постановления, решения, приказы, распоряжения, указания, поручения, письма, инструкции, методические указания и рекоменд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подведомств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которые содержат сведения о выполнении распоряжений, запросы о методах и средствах выполнения заданий и отчетные данные об их деятельности. Этот поток состоит из таких документов, как отчеты по различным направлениям деятельности, докладные записки, письма, ак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от несоподчин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аправляемые с целью согласования совместных действий или побуждения к ним, консультирования, получения или направления необходимой информации. Основные виды документов данной группы — письма (информационные, рекламные, оферты, гарантийные, запросы и др.), договоры, а также документы, сопровождающие выполнение договоров (акты, счета, заявки, сертификаты, отгрузочные документы и др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щения гражда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2:47:41Z</dcterms:modified>
  <cp:revision>133</cp:revision>
  <dc:subject/>
  <dc:title>Lecture Template </dc:title>
</cp:coreProperties>
</file>